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6AF-5C8B-4E98-86B0-8A0D1ECE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BD2-16A6-4EE4-BEFB-7B4D1A0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A59-2215-40D5-A32B-0F61B4A1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7C5-7D46-4003-9848-D72AEDE6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592-B758-46A7-B041-A0A6773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AAC-8F73-44B7-9F0B-A677E6C6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7D6-1114-448F-8AA9-3E01371E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0F8-4DEA-4B49-98D6-830C477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8E2-DCC2-4304-950E-9DAA1C1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E2C-9B0B-4ADA-927F-051ACF5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94B-4215-4375-B77E-247A351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101-EDFD-42AF-896C-F253589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EF25-5C1F-4F8C-92FF-CC4F9799E09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1 employees are in Ulm under contrac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nsulting company works on alternatives for closing, result are promised for cw 2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negotiations on reconciliation of interest started for the case if decision persis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ditions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transfer or scrapping of the EMC-chamber before 2nd of Ju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s management asks for no active transfer proposals to single employees by line manag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partment mangers are requested to set up plans for moving and closing down up to the 28th of M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elopment effort after 1st of June will be refunded to Motorola, has to be planned as consulting cost in PMC, list of named engineers are part of the contra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 accounting unclear, transfer of equipment has to be handled by carve out team in a centralized w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nly a few SW-contracts (site related) will be transferr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under discuss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will be planned cw2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plan for each function is available, has to be more detailed in some cas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oving plans Aal internal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already start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2T15:13:57Z</dcterms:modified>
  <cp:revision>53</cp:revision>
  <dc:subject/>
  <dc:title>PowerPoint 簡報</dc:title>
</cp:coreProperties>
</file>